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EDD6-8CF9-4C09-BA1E-E5FA387B7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ACC0-4E66-47E8-910E-0328E1B7E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CD3D-81E1-46AB-8223-B6F95EFEB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08D3-0556-4423-8C3D-40DBA26DC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AFE9B-37F3-446E-8302-C4969AE50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A2C1A-CD56-4FFE-816A-5E61094FE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01D5B-DF4A-471C-96F4-4C8FC6F57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A3CDB-EF8F-49F7-BDD8-17BDB033A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C851E-9313-418C-856F-F4F972727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F49EF-5653-4347-86B1-15B39D715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D078D-A8AD-4A57-9491-9111372E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2C8C-6F9D-4310-ADEC-61856F658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7E954-465F-4143-A60C-98F33D21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7A761-6080-4D61-9D78-CDBF4087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E6533-A702-4CCB-8C30-233A4439E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0B413-1063-4311-86EC-7C48753FE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A6C40-96D0-4129-B028-95CC2CFD3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466C-479F-4D81-A9A3-4C3783CAC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FFF5-B4C1-43B9-84E4-4FB67D1D1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68D6-0B67-4187-A0C7-6DCF9DDC1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FAE9-F804-46E1-BDF9-10698B254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5F1A-6F9D-4BB2-81E0-A839ED83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1F29-1839-4131-837D-FC1667CB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73C7-B3F6-4903-BE0B-70EC4278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8E581-7685-4512-8FB5-A609D78D8C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FBCF0-531D-46FE-9472-A801D612D1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zrzMhU_4m-g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Science Literacy in the High School Classroom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Examples of Teaching Scientific Literacy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tructure of DNA: Cooperation and competi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ve students use the “How Science Works” handout to analyze the artic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azy Conclu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ve students work through inferences v. conclu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Ideas for Scientific Literacy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ing science articles or classic scientific literat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thering and interpreting dat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 researc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pretation of data/graph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loration of science in the new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hat is Science Literacy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ientific literacy is the knowledge and understanding of scientific concepts and processes required for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sonal decision mak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ticipation in civic and cultural affai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conomic producti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so includes specific types of abiliti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3059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cientifically literate person can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k, find, or determine answers to questions derived from curiosity about everyday experie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cribe, explain, and predict natural phenomen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d with understanding articles about science in the popular press and engage in social conversation about the validity of the conclusion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dentify scientific issues underlying national and local decisions and express positions that are scientifically and technologically inform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e the quality of scientific information on the basis of its source and the methods used to generate 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e and evaluate arguments based on evidence and apply conclusions from such arguments appropriatel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National Science Education Standard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eaching Science Literacy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ure of Sci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cesses of Sci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ientific Concep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cience Literacy Skill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king and exploration of ques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llection, organization, presentation, and analysis of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awing and evaluating conclu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ductive reaso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blem solv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Reasoning and Conclusion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are the lines of reasoning in this exampl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http://www.youtube.com/watch?v=zrzMhU_4m-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1</a:t>
            </a:r>
            <a:r>
              <a:rPr b="1" lang="en-US" sz="4400" spc="-1" strike="noStrike" baseline="30000">
                <a:solidFill>
                  <a:srgbClr val="feec94"/>
                </a:solidFill>
                <a:latin typeface="Times New Roman"/>
              </a:rPr>
              <a:t>st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Line of Reasoning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0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e burn witch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e burn woo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refore, witches are made of woo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2</a:t>
            </a:r>
            <a:r>
              <a:rPr b="1" lang="en-US" sz="4400" spc="-1" strike="noStrike" baseline="30000">
                <a:solidFill>
                  <a:srgbClr val="feec94"/>
                </a:solidFill>
                <a:latin typeface="Times New Roman"/>
              </a:rPr>
              <a:t>nd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Line of Reason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ood floats on wate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ucks float on wate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refore, wood and ducks must weigh the sam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onclus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f a person weighs the same as a duck, she is made of wood and is therefore a witch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01:05:35Z</dcterms:created>
  <dc:creator>College of Education</dc:creator>
  <dc:description/>
  <dc:language>en-US</dc:language>
  <cp:lastModifiedBy>elpalme</cp:lastModifiedBy>
  <dcterms:modified xsi:type="dcterms:W3CDTF">2011-02-21T20:37:47Z</dcterms:modified>
  <cp:revision>8</cp:revision>
  <dc:subject/>
  <dc:title>Science Literacy in the High School Classroom</dc:title>
</cp:coreProperties>
</file>